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A7D4-3FDD-4580-B116-90C3332FC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1802-1CB7-4492-97B3-DE51BDAA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4460-D66B-4896-9237-25A47E2EB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1ED2-58E3-4976-A799-B4D253F0E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83C7-300F-4125-83FC-34483BFF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9A72-8DA2-47B3-8177-5D503788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0408-8142-49ED-8354-AA0C5092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8C0F-E899-47F2-BE73-893BEBF7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B889-F9B0-4503-B8AC-ED721552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0AF2-DE83-4AB5-838E-5DAE24D4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07C7-9AA9-454C-AF12-61266609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4AFF-F3E0-48CA-BDE3-200EA223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186C-3D1A-4194-A22E-10AF0AB6FFB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SIP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80280" y="1828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308320" y="20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69840" y="2263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He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22860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028240" y="3078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117520" y="3489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U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96840" y="3854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ialog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6760" y="42973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ransa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925640" y="4678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814760" y="2666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88680" y="50594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Mak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09040" y="2620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Ua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72840" y="3078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16320" y="30780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40080" y="348948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68200" y="3916440"/>
            <a:ext cx="18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179240" y="437364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782320" y="3489480"/>
            <a:ext cx="16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849280" y="39466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50600" y="4403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05680" y="52880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449120" y="35053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Timer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382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2742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31520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0960" y="464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86728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562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1240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89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INVI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6957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23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CANCEL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240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_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324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1447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733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40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09880"/>
            <a:ext cx="761760" cy="228600"/>
          </a:xfrm>
          <a:custGeom>
            <a:avLst/>
            <a:gdLst>
              <a:gd name="textAreaLeft" fmla="*/ 0 w 761760"/>
              <a:gd name="textAreaRight" fmla="*/ 762120 w 761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End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3832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HAS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0920" y="43434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8000" y="5410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6019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9072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7531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5333760" y="31240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952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5909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20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809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97180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3619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6576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4857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_O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1752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0285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76240" y="27810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193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371600"/>
            <a:ext cx="1447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 on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371600"/>
            <a:ext cx="1371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87 on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447920" y="38098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52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715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1814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51814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85764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590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8006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29528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666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90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62940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17184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006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181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5257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91520" y="14475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6286320" y="4380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812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62940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24080" y="228600"/>
            <a:ext cx="31244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295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91520" y="14475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5257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495680" y="4114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86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809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8195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971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209680" y="23619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447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66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781360" y="24760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3048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238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7810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95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15238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8288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8862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48006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809880" y="43434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267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3657240" y="525744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6386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956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4876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8168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00400" y="228600"/>
            <a:ext cx="31240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2286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24382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2247480" y="300996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2860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590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495680"/>
            <a:ext cx="8384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38200" y="400032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304812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33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3314520" y="5219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862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724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5753160" y="186660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91440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85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14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952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53341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6286320" y="308592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J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6514920" y="300960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05520" y="27428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0:47:16Z</dcterms:created>
  <dc:creator>gom</dc:creator>
  <dc:description/>
  <dc:language>en-US</dc:language>
  <cp:lastModifiedBy>gom</cp:lastModifiedBy>
  <dcterms:modified xsi:type="dcterms:W3CDTF">2006-08-05T07:45:54Z</dcterms:modified>
  <cp:revision>3</cp:revision>
  <dc:subject/>
  <dc:title>PowerPoint 프레젠테이션</dc:title>
</cp:coreProperties>
</file>